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3CE-07BA-42C6-82C9-2E949EAC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FDC-ECAA-401E-93EE-F19E11E5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AC6-8978-4A67-BCBA-ABF1AB00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290-E06B-4ED1-9242-5E8BD1D5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BB2-E2BA-4368-BBD5-E333EAE4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EE9-1210-46F9-B2B5-A0F4AC5F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F36-A94F-41E5-B819-42E3AC02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7C0-9542-4AD6-B497-17EDE242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920-E030-4858-A96F-05F6271D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E7F-C4A9-48C9-ACF1-F2C3A87E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965-49E2-4BEA-A9A9-5315FD5F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DD2-E4F1-4AA6-BF73-EB32DE0A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7E35-B9DA-4770-BC56-0FB7853AB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990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250524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Lei nº 3.904, de 13/09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638964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Black"/>
              </a:rPr>
              <a:t>Publicação  DODF  –           Suplemento ao nº 177,                      de 14/09/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SETEMBRO D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9200" y="16336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trito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67040" y="631800"/>
          <a:ext cx="115236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7040" y="631800"/>
                    <a:ext cx="11523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05273-8</cp:lastModifiedBy>
  <dcterms:modified xsi:type="dcterms:W3CDTF">2006-09-20T15:28:32Z</dcterms:modified>
  <cp:revision>18</cp:revision>
  <dc:subject/>
  <dc:title>Slide 1</dc:title>
</cp:coreProperties>
</file>